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zipdn102.wav" ContentType="audio/x-wav"/>
  <Override PartName="/ppt/media/image2.gif" ContentType="image/gif"/>
  <Override PartName="/ppt/media/jetflyby2.wav" ContentType="audio/x-wav"/>
  <Override PartName="/ppt/media/bserie06.wav" ContentType="audio/x-wav"/>
  <Override PartName="/ppt/media/highchime.wav" ContentType="audio/x-wav"/>
  <Override PartName="/ppt/media/hzipup01.wav" ContentType="audio/x-wav"/>
  <Override PartName="/ppt/media/image3.gif" ContentType="image/gif"/>
  <Override PartName="/ppt/media/kid%20yeah.wav" ContentType="audio/x-wav"/>
  <Override PartName="/ppt/media/image1.gif" ContentType="image/gif"/>
  <Override PartName="/ppt/media/caralarmoff.wav" ContentType="audio/x-wav"/>
  <Override PartName="/ppt/media/lzipup01.wav" ContentType="audio/x-wav"/>
  <Override PartName="/ppt/media/zipby102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E31A-F015-4B70-85C1-7708ACA54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8183-2472-4CF7-9C0B-AF89CFB1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6A04-D94A-4273-8E1F-457D0E856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3324-33FB-413B-909D-5CB485389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343C-84F7-4D17-A2DA-2A7DE0FE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29B5-5A41-497B-8D4B-5E47D132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D21B-62D4-478C-A891-CECFDA62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504C-D52B-46AB-A43D-F4137662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D2B4-C852-4B39-A949-06C80921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4925-EFFC-43D2-B1EF-2D44E0D1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B245-801F-4705-9638-95AB7EE7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7055-2E6D-4B35-9A01-A8026B0B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2BEC-C9C2-40E2-BBD7-E85DBE24D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jetflyby2.wav"/><Relationship Id="rId3" Type="http://schemas.openxmlformats.org/officeDocument/2006/relationships/audio" Target="../media/zapbig0g.wav"/><Relationship Id="rId4" Type="http://schemas.openxmlformats.org/officeDocument/2006/relationships/audio" Target="../media/zipdn102.wav"/><Relationship Id="rId5" Type="http://schemas.openxmlformats.org/officeDocument/2006/relationships/audio" Target="../media/highchime.wav"/><Relationship Id="rId6" Type="http://schemas.openxmlformats.org/officeDocument/2006/relationships/audio" Target="../media/zipdn102.wav"/><Relationship Id="rId7" Type="http://schemas.openxmlformats.org/officeDocument/2006/relationships/audio" Target="../media/zapbig0g.wav"/><Relationship Id="rId8" Type="http://schemas.openxmlformats.org/officeDocument/2006/relationships/audio" Target="../media/hzipup01.wav"/><Relationship Id="rId9" Type="http://schemas.openxmlformats.org/officeDocument/2006/relationships/audio" Target="../media/zapbig0g.wav"/><Relationship Id="rId10" Type="http://schemas.openxmlformats.org/officeDocument/2006/relationships/audio" Target="../media/jetflyby2.wav"/><Relationship Id="rId11" Type="http://schemas.openxmlformats.org/officeDocument/2006/relationships/audio" Target="../media/zipdn102.wav"/><Relationship Id="rId12" Type="http://schemas.openxmlformats.org/officeDocument/2006/relationships/audio" Target="../media/highchime.wav"/><Relationship Id="rId13" Type="http://schemas.openxmlformats.org/officeDocument/2006/relationships/audio" Target="../media/zipdn102.wav"/><Relationship Id="rId14" Type="http://schemas.openxmlformats.org/officeDocument/2006/relationships/audio" Target="../media/zapbig0g.wav"/><Relationship Id="rId15" Type="http://schemas.openxmlformats.org/officeDocument/2006/relationships/audio" Target="../media/hzipup01.wav"/><Relationship Id="rId16" Type="http://schemas.openxmlformats.org/officeDocument/2006/relationships/audio" Target="../media/jetflyby2.wav"/><Relationship Id="rId17" Type="http://schemas.openxmlformats.org/officeDocument/2006/relationships/audio" Target="../media/zipdn102.wav"/><Relationship Id="rId18" Type="http://schemas.openxmlformats.org/officeDocument/2006/relationships/audio" Target="../media/highchime.wav"/><Relationship Id="rId19" Type="http://schemas.openxmlformats.org/officeDocument/2006/relationships/audio" Target="../media/zipdn102.wav"/><Relationship Id="rId20" Type="http://schemas.openxmlformats.org/officeDocument/2006/relationships/audio" Target="../media/zapbig0g.wav"/><Relationship Id="rId21" Type="http://schemas.openxmlformats.org/officeDocument/2006/relationships/audio" Target="../media/hzipup01.wav"/><Relationship Id="rId22" Type="http://schemas.openxmlformats.org/officeDocument/2006/relationships/audio" Target="../media/zapbig0g.wav"/><Relationship Id="rId23" Type="http://schemas.openxmlformats.org/officeDocument/2006/relationships/audio" Target="../media/zipdn102.wav"/><Relationship Id="rId24" Type="http://schemas.openxmlformats.org/officeDocument/2006/relationships/audio" Target="../media/highchime.wav"/><Relationship Id="rId25" Type="http://schemas.openxmlformats.org/officeDocument/2006/relationships/audio" Target="../media/zipdn102.wav"/><Relationship Id="rId26" Type="http://schemas.openxmlformats.org/officeDocument/2006/relationships/audio" Target="../media/zapbig0g.wav"/><Relationship Id="rId27" Type="http://schemas.openxmlformats.org/officeDocument/2006/relationships/audio" Target="../media/hzipup01.wav"/><Relationship Id="rId28" Type="http://schemas.openxmlformats.org/officeDocument/2006/relationships/audio" Target="../media/hzipup01.wav"/><Relationship Id="rId29" Type="http://schemas.openxmlformats.org/officeDocument/2006/relationships/audio" Target="../media/kid%20yeah.wav"/><Relationship Id="rId3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jetflyby2.wav"/><Relationship Id="rId3" Type="http://schemas.openxmlformats.org/officeDocument/2006/relationships/audio" Target="../media/zapbig0g.wav"/><Relationship Id="rId4" Type="http://schemas.openxmlformats.org/officeDocument/2006/relationships/audio" Target="../media/zipdn102.wav"/><Relationship Id="rId5" Type="http://schemas.openxmlformats.org/officeDocument/2006/relationships/audio" Target="../media/highchime.wav"/><Relationship Id="rId6" Type="http://schemas.openxmlformats.org/officeDocument/2006/relationships/audio" Target="../media/zipdn102.wav"/><Relationship Id="rId7" Type="http://schemas.openxmlformats.org/officeDocument/2006/relationships/audio" Target="../media/zapbig0g.wav"/><Relationship Id="rId8" Type="http://schemas.openxmlformats.org/officeDocument/2006/relationships/audio" Target="../media/hzipup01.wav"/><Relationship Id="rId9" Type="http://schemas.openxmlformats.org/officeDocument/2006/relationships/audio" Target="../media/zapbig0g.wav"/><Relationship Id="rId10" Type="http://schemas.openxmlformats.org/officeDocument/2006/relationships/audio" Target="../media/jetflyby2.wav"/><Relationship Id="rId11" Type="http://schemas.openxmlformats.org/officeDocument/2006/relationships/audio" Target="../media/zipdn102.wav"/><Relationship Id="rId12" Type="http://schemas.openxmlformats.org/officeDocument/2006/relationships/audio" Target="../media/highchime.wav"/><Relationship Id="rId13" Type="http://schemas.openxmlformats.org/officeDocument/2006/relationships/audio" Target="../media/zipdn102.wav"/><Relationship Id="rId14" Type="http://schemas.openxmlformats.org/officeDocument/2006/relationships/audio" Target="../media/zapbig0g.wav"/><Relationship Id="rId15" Type="http://schemas.openxmlformats.org/officeDocument/2006/relationships/audio" Target="../media/hzipup01.wav"/><Relationship Id="rId16" Type="http://schemas.openxmlformats.org/officeDocument/2006/relationships/audio" Target="../media/jetflyby2.wav"/><Relationship Id="rId17" Type="http://schemas.openxmlformats.org/officeDocument/2006/relationships/audio" Target="../media/zipdn102.wav"/><Relationship Id="rId18" Type="http://schemas.openxmlformats.org/officeDocument/2006/relationships/audio" Target="../media/highchime.wav"/><Relationship Id="rId19" Type="http://schemas.openxmlformats.org/officeDocument/2006/relationships/audio" Target="../media/zipdn102.wav"/><Relationship Id="rId20" Type="http://schemas.openxmlformats.org/officeDocument/2006/relationships/audio" Target="../media/zapbig0g.wav"/><Relationship Id="rId21" Type="http://schemas.openxmlformats.org/officeDocument/2006/relationships/audio" Target="../media/hzipup01.wav"/><Relationship Id="rId22" Type="http://schemas.openxmlformats.org/officeDocument/2006/relationships/audio" Target="../media/zapbig0g.wav"/><Relationship Id="rId23" Type="http://schemas.openxmlformats.org/officeDocument/2006/relationships/audio" Target="../media/zipdn102.wav"/><Relationship Id="rId24" Type="http://schemas.openxmlformats.org/officeDocument/2006/relationships/audio" Target="../media/highchime.wav"/><Relationship Id="rId25" Type="http://schemas.openxmlformats.org/officeDocument/2006/relationships/audio" Target="../media/zipdn102.wav"/><Relationship Id="rId26" Type="http://schemas.openxmlformats.org/officeDocument/2006/relationships/audio" Target="../media/zapbig0g.wav"/><Relationship Id="rId27" Type="http://schemas.openxmlformats.org/officeDocument/2006/relationships/audio" Target="../media/hzipup01.wav"/><Relationship Id="rId28" Type="http://schemas.openxmlformats.org/officeDocument/2006/relationships/audio" Target="../media/hzipup01.wav"/><Relationship Id="rId29" Type="http://schemas.openxmlformats.org/officeDocument/2006/relationships/audio" Target="../media/kid%20yeah.wav"/><Relationship Id="rId3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zapbig0g.wav"/><Relationship Id="rId3" Type="http://schemas.openxmlformats.org/officeDocument/2006/relationships/audio" Target="../media/zipdn102.wav"/><Relationship Id="rId4" Type="http://schemas.openxmlformats.org/officeDocument/2006/relationships/audio" Target="../media/highchime.wav"/><Relationship Id="rId5" Type="http://schemas.openxmlformats.org/officeDocument/2006/relationships/audio" Target="../media/zipdn102.wav"/><Relationship Id="rId6" Type="http://schemas.openxmlformats.org/officeDocument/2006/relationships/audio" Target="../media/zapbig0g.wav"/><Relationship Id="rId7" Type="http://schemas.openxmlformats.org/officeDocument/2006/relationships/audio" Target="../media/zipdn102.wav"/><Relationship Id="rId8" Type="http://schemas.openxmlformats.org/officeDocument/2006/relationships/audio" Target="../media/highchime.wav"/><Relationship Id="rId9" Type="http://schemas.openxmlformats.org/officeDocument/2006/relationships/audio" Target="../media/zipdn102.wav"/><Relationship Id="rId10" Type="http://schemas.openxmlformats.org/officeDocument/2006/relationships/audio" Target="../media/zapbig0g.wav"/><Relationship Id="rId11" Type="http://schemas.openxmlformats.org/officeDocument/2006/relationships/audio" Target="../media/hzipup01.wav"/><Relationship Id="rId12" Type="http://schemas.openxmlformats.org/officeDocument/2006/relationships/audio" Target="../media/hzipup01.wav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zapbig0g.wav"/><Relationship Id="rId3" Type="http://schemas.openxmlformats.org/officeDocument/2006/relationships/audio" Target="../media/zipdn102.wav"/><Relationship Id="rId4" Type="http://schemas.openxmlformats.org/officeDocument/2006/relationships/audio" Target="../media/highchime.wav"/><Relationship Id="rId5" Type="http://schemas.openxmlformats.org/officeDocument/2006/relationships/audio" Target="../media/zipdn102.wav"/><Relationship Id="rId6" Type="http://schemas.openxmlformats.org/officeDocument/2006/relationships/audio" Target="../media/zapbig0g.wav"/><Relationship Id="rId7" Type="http://schemas.openxmlformats.org/officeDocument/2006/relationships/audio" Target="../media/zipdn102.wav"/><Relationship Id="rId8" Type="http://schemas.openxmlformats.org/officeDocument/2006/relationships/audio" Target="../media/highchime.wav"/><Relationship Id="rId9" Type="http://schemas.openxmlformats.org/officeDocument/2006/relationships/audio" Target="../media/zipdn102.wav"/><Relationship Id="rId10" Type="http://schemas.openxmlformats.org/officeDocument/2006/relationships/audio" Target="../media/zapbig0g.wav"/><Relationship Id="rId11" Type="http://schemas.openxmlformats.org/officeDocument/2006/relationships/audio" Target="../media/hzipup01.wav"/><Relationship Id="rId12" Type="http://schemas.openxmlformats.org/officeDocument/2006/relationships/audio" Target="../media/zapbig0g.wav"/><Relationship Id="rId13" Type="http://schemas.openxmlformats.org/officeDocument/2006/relationships/audio" Target="../media/hzipup01.wav"/><Relationship Id="rId14" Type="http://schemas.openxmlformats.org/officeDocument/2006/relationships/audio" Target="../media/hzipup01.wav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aralarmoff.wav"/><Relationship Id="rId3" Type="http://schemas.openxmlformats.org/officeDocument/2006/relationships/audio" Target="../media/highchime.wav"/><Relationship Id="rId4" Type="http://schemas.openxmlformats.org/officeDocument/2006/relationships/audio" Target="../media/jetflyby2.wav"/><Relationship Id="rId5" Type="http://schemas.openxmlformats.org/officeDocument/2006/relationships/audio" Target="../media/zipdn102.wav"/><Relationship Id="rId6" Type="http://schemas.openxmlformats.org/officeDocument/2006/relationships/audio" Target="../media/zipdn102.wav"/><Relationship Id="rId7" Type="http://schemas.openxmlformats.org/officeDocument/2006/relationships/audio" Target="../media/zipdn102.wav"/><Relationship Id="rId8" Type="http://schemas.openxmlformats.org/officeDocument/2006/relationships/audio" Target="../media/zipdn102.wav"/><Relationship Id="rId9" Type="http://schemas.openxmlformats.org/officeDocument/2006/relationships/audio" Target="../media/zipdn102.wav"/><Relationship Id="rId10" Type="http://schemas.openxmlformats.org/officeDocument/2006/relationships/audio" Target="../media/bserie06.wav"/><Relationship Id="rId11" Type="http://schemas.openxmlformats.org/officeDocument/2006/relationships/audio" Target="../media/zipby102.wav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highchime.wav"/><Relationship Id="rId3" Type="http://schemas.openxmlformats.org/officeDocument/2006/relationships/audio" Target="../media/bserie06.wav"/><Relationship Id="rId4" Type="http://schemas.openxmlformats.org/officeDocument/2006/relationships/audio" Target="../media/zipby102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highchime.wav"/><Relationship Id="rId3" Type="http://schemas.openxmlformats.org/officeDocument/2006/relationships/audio" Target="../media/jetflyby2.wav"/><Relationship Id="rId4" Type="http://schemas.openxmlformats.org/officeDocument/2006/relationships/audio" Target="../media/zipdn102.wav"/><Relationship Id="rId5" Type="http://schemas.openxmlformats.org/officeDocument/2006/relationships/audio" Target="../media/zipdn102.wav"/><Relationship Id="rId6" Type="http://schemas.openxmlformats.org/officeDocument/2006/relationships/audio" Target="../media/zipdn102.wav"/><Relationship Id="rId7" Type="http://schemas.openxmlformats.org/officeDocument/2006/relationships/audio" Target="../media/zipdn102.wav"/><Relationship Id="rId8" Type="http://schemas.openxmlformats.org/officeDocument/2006/relationships/audio" Target="../media/zipdn102.wav"/><Relationship Id="rId9" Type="http://schemas.openxmlformats.org/officeDocument/2006/relationships/audio" Target="../media/bserie06.wav"/><Relationship Id="rId10" Type="http://schemas.openxmlformats.org/officeDocument/2006/relationships/audio" Target="../media/zipby102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9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71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Use the calculator to add and subtract fractio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42920" y="1260360"/>
                <a:ext cx="2482920" cy="164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7640" y="2976480"/>
                <a:ext cx="6951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706320" y="3046320"/>
                <a:ext cx="4780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379520" y="2971800"/>
                <a:ext cx="47952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616120" y="2994120"/>
                <a:ext cx="81432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025720" y="3165480"/>
                <a:ext cx="5191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4008600" y="1274760"/>
            <a:ext cx="513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A common denominator is always the multiplication of the two denominat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22640" y="2921040"/>
            <a:ext cx="512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Cross-multiply to get the new numerat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1339560" y="1725120"/>
            <a:ext cx="811080" cy="785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73160" y="3745080"/>
                <a:ext cx="47772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722160" y="3807000"/>
                <a:ext cx="4780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395360" y="3732120"/>
                <a:ext cx="47952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646360" y="3754440"/>
                <a:ext cx="81432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041560" y="3925800"/>
                <a:ext cx="5191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 flipV="1">
            <a:off x="1436760" y="1695240"/>
            <a:ext cx="772920" cy="739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680" y="4481640"/>
                <a:ext cx="6955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723960" y="4522680"/>
                <a:ext cx="4777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397160" y="4468680"/>
                <a:ext cx="4791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664000" y="4491000"/>
                <a:ext cx="81432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043000" y="4641840"/>
                <a:ext cx="5191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3992400" y="3941640"/>
            <a:ext cx="515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Add the new numerators together and put it over the new denominat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0" y="5222880"/>
                <a:ext cx="8254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801720" y="5307120"/>
                <a:ext cx="5047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284120" y="5230800"/>
                <a:ext cx="8272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860560" y="5186520"/>
                <a:ext cx="81468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103480" y="5403960"/>
                <a:ext cx="5191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771640" y="4962600"/>
                <a:ext cx="900360" cy="17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2590920" y="4983120"/>
            <a:ext cx="1265040" cy="1874880"/>
          </a:xfrm>
          <a:prstGeom prst="ellipse">
            <a:avLst/>
          </a:prstGeom>
          <a:solidFill>
            <a:srgbClr val="ffff99">
              <a:alpha val="2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kid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9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71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Use the calculator to add and subtract fractio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60480" y="1260360"/>
                <a:ext cx="2649240" cy="164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27160" y="2976480"/>
                <a:ext cx="8254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101600" y="3046320"/>
                <a:ext cx="4780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654200" y="2971800"/>
                <a:ext cx="47952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870280" y="2994120"/>
                <a:ext cx="107136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300400" y="3165480"/>
                <a:ext cx="5191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4008600" y="1274760"/>
            <a:ext cx="513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A common denominator is always the multiplication of the two denominat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40120" y="2921040"/>
            <a:ext cx="440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Cross-multiply to get the new numerat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1339560" y="1725120"/>
            <a:ext cx="811080" cy="785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47840" y="3745080"/>
                <a:ext cx="47772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996840" y="3807000"/>
                <a:ext cx="4780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539720" y="3732120"/>
                <a:ext cx="7416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868480" y="3754440"/>
                <a:ext cx="107172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316240" y="3925800"/>
                <a:ext cx="5191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 flipV="1">
            <a:off x="1436760" y="1695240"/>
            <a:ext cx="772920" cy="739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14200" y="4481640"/>
                <a:ext cx="8254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089000" y="4522680"/>
                <a:ext cx="4777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671480" y="4468680"/>
                <a:ext cx="4795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938320" y="4491000"/>
                <a:ext cx="81468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317680" y="4641840"/>
                <a:ext cx="5191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4768920" y="4064040"/>
            <a:ext cx="437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Subtract the new numerators together and put it over the new denominat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74680" y="5222880"/>
                <a:ext cx="10857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353960" y="5425920"/>
                <a:ext cx="46692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817640" y="5230800"/>
                <a:ext cx="8272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444840" y="5186520"/>
                <a:ext cx="77148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666880" y="5403960"/>
                <a:ext cx="5191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192480" y="4964040"/>
                <a:ext cx="1157400" cy="17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9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3168720" y="4983120"/>
            <a:ext cx="1265040" cy="1874880"/>
          </a:xfrm>
          <a:prstGeom prst="ellipse">
            <a:avLst/>
          </a:prstGeom>
          <a:solidFill>
            <a:srgbClr val="ffff99">
              <a:alpha val="2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kid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9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7160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Use the calculator to add and subtract fraction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97000" y="1477800"/>
                <a:ext cx="2762280" cy="177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71440" y="3840120"/>
                <a:ext cx="82548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209600" y="3809880"/>
                <a:ext cx="50652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760400" y="3860640"/>
                <a:ext cx="8794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708600" y="3862440"/>
                <a:ext cx="24354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684520" y="4075200"/>
                <a:ext cx="61920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4317840" y="1355760"/>
            <a:ext cx="482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With a fraction key on a calculator, just type in the probl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610080" y="3828960"/>
                <a:ext cx="5158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394160" y="3824280"/>
                <a:ext cx="5065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126040" y="3849840"/>
                <a:ext cx="51768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869080" y="4038480"/>
                <a:ext cx="6192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362400" y="4711680"/>
                <a:ext cx="135720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9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7160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Use the calculator to add and subtract fraction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81080" y="1477800"/>
                <a:ext cx="3206520" cy="177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93680" y="3814920"/>
                <a:ext cx="98100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209600" y="3809880"/>
                <a:ext cx="50652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735200" y="3835440"/>
                <a:ext cx="9316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802560" y="3846600"/>
                <a:ext cx="234144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10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658960" y="3895560"/>
                <a:ext cx="669960" cy="6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4317840" y="1355760"/>
            <a:ext cx="482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With a fraction key on a calculator, just type in the probl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403440" y="3828960"/>
                <a:ext cx="9288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394160" y="3824280"/>
                <a:ext cx="5065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892760" y="3875040"/>
                <a:ext cx="9842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869080" y="4038480"/>
                <a:ext cx="6192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603520" y="5097600"/>
                <a:ext cx="2997360" cy="79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υ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41520" y="5118120"/>
                <a:ext cx="18079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b/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987880" y="4699080"/>
                <a:ext cx="2014560" cy="18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10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601640"/>
            <a:ext cx="74055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buClr>
                <a:srgbClr val="000099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Paula has 100 stamps in her collection. Jim has 20 stamps. Paula sells 50 stamps. How many stamps does Paula have left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415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the problem if you can. Tell whether there is too much information or too little information to do the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906640" y="3143160"/>
            <a:ext cx="1619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ubtract</a:t>
            </a:r>
            <a:endParaRPr b="0" lang="en-US" sz="2400" spc="1" strike="noStrike">
              <a:ln w="19080">
                <a:solidFill>
                  <a:srgbClr val="99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714240" y="3890880"/>
                <a:ext cx="134172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019240" y="4148280"/>
                <a:ext cx="61920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692440" y="3892680"/>
                <a:ext cx="9795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754440" y="4098960"/>
                <a:ext cx="61920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365720" y="3876840"/>
                <a:ext cx="9810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 txBox="1"/>
          <p:nvPr/>
        </p:nvSpPr>
        <p:spPr>
          <a:xfrm>
            <a:off x="1630440" y="4782960"/>
            <a:ext cx="5486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3366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oo Much Information</a:t>
            </a:r>
            <a:endParaRPr b="0" lang="en-US" sz="2400" spc="1" strike="noStrike">
              <a:ln w="12600">
                <a:solidFill>
                  <a:srgbClr val="003366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365040" y="562464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You did not need to know that Jim had 50 stam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230960" y="1552680"/>
            <a:ext cx="21859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172200" y="142416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10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738440"/>
            <a:ext cx="65358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buClr>
                <a:srgbClr val="000099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Rosa did homework for 1 hour after school. Later, she did homework again. How many hours in all did Rosa do homework that day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415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the problem if you can. Tell whether there is too much information or too little information to do the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06560" y="4309920"/>
            <a:ext cx="5486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3366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oo Little Information</a:t>
            </a:r>
            <a:endParaRPr b="0" lang="en-US" sz="2400" spc="1" strike="noStrike">
              <a:ln w="12600">
                <a:solidFill>
                  <a:srgbClr val="003366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8" name=""/>
          <p:cNvSpPr/>
          <p:nvPr/>
        </p:nvSpPr>
        <p:spPr>
          <a:xfrm>
            <a:off x="349200" y="521352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You need to know how long she worked on homework the second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477120" y="1625760"/>
            <a:ext cx="2666880" cy="3333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10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738440"/>
            <a:ext cx="70754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buClr>
                <a:srgbClr val="000099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Eric rented two movies from the video store. Each movie cost $3.50 to rent. He watched the movies for two and a half hours. How much did it cost Eric to rent 2 movie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415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the problem if you can. Tell whether there is too much information or too little information to do the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462480" y="3638520"/>
            <a:ext cx="1619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ultiply</a:t>
            </a:r>
            <a:endParaRPr b="0" lang="en-US" sz="2400" spc="1" strike="noStrike">
              <a:ln w="19080">
                <a:solidFill>
                  <a:srgbClr val="9933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157480" y="4294080"/>
                <a:ext cx="13762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525840" y="4408560"/>
                <a:ext cx="4874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032360" y="4300560"/>
                <a:ext cx="4870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500720" y="4484520"/>
                <a:ext cx="53172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084640" y="4255920"/>
                <a:ext cx="1731960" cy="79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 txBox="1"/>
          <p:nvPr/>
        </p:nvSpPr>
        <p:spPr>
          <a:xfrm>
            <a:off x="1862280" y="5070600"/>
            <a:ext cx="5486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3366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oo Much Information</a:t>
            </a:r>
            <a:endParaRPr b="0" lang="en-US" sz="2400" spc="1" strike="noStrike">
              <a:ln w="12600">
                <a:solidFill>
                  <a:srgbClr val="003366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596880" y="591192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You did not need to know that he watched the movies for two and a half ho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133524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11, 8 – 9 #1 – 6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13, 8 – 10 #1 – 4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pg 75/7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5-01-24T14:59:52Z</dcterms:modified>
  <cp:revision>92</cp:revision>
  <dc:subject/>
  <dc:title>Slide 1</dc:title>
</cp:coreProperties>
</file>